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49D-2CE5-4F83-9F7C-A8FFF3B4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D64-C987-47A5-8D83-CBFF2243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343-40A3-439F-B6CD-03E7C21F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40F-3F88-4208-A76F-13F1FAF9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D19A-D016-46C4-B5E0-D1B94DC1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BAAB-39E9-4F6E-B001-3E327FBD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A725-BB6E-4CAA-BFCB-1144D6A8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0F7F-F5F6-4F6F-BFFA-15F39BE5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1FBC-D033-4A75-8098-0532D6B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AC24-74DB-47EC-9677-0AD53DD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33D5-C9D4-42AC-AFCC-E3C9753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2F7-69E7-4688-A96E-53C0163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29AA-C0A0-4DB7-80A4-E1CFEB5A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3D47-B92B-4C1C-81D4-FCC3AEC7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CA3-3F94-4273-8693-2FAA26B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CFF5-C6D7-43FD-BCA5-25147B5A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7D4A-9033-4057-8050-DDD86CEA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2A59-0DC0-4E48-BF80-8007CE8E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E87C-5E9B-4070-ABEA-E6009676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A039-4270-4CD2-B384-BFCF6E56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2AC9-DC9F-473B-89E7-51F15056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7900-1473-40D8-BC89-E57EBC92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1B8-709A-45DC-908F-CE164D5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A5D5-CFAA-4787-91D9-14D30805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4F6F-52F3-4D66-AECD-4BE53F8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3ADA-81E9-4C1C-9595-2BE20D9F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3ED0-0A15-47F9-A347-4FBC5EDB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5406-2CF3-4552-911E-D051EE7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A1B3-5552-45D4-9E29-D0D34509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35A3-8247-40B0-BDC7-337D9298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27DC-33FB-46EF-AF4F-EF52CC16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FD7A-580E-49FA-95F6-569CA7E7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785B-A7C6-4FDA-924A-9A54A576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CE4-596E-41A9-8984-52CDAC82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A346-55C4-4EE7-8E63-6C031DF2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09F7-2086-4E79-ADDD-51FC6923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4943-C37F-4003-B3F7-FC39B1C7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4442-962F-43F9-A88B-37E5E98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4DC3-D696-436B-A905-6DA4B6D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50F4-7AD1-4048-9FF7-1C7DFCF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DD8F-A856-4964-B532-0119E447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5224-7704-4DF4-ABC4-9571E775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8A2B-E93C-4D54-BED5-AF3949C1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913-447A-40E8-B89A-9D4CE27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149-A77B-450E-8154-5DD7E586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340-5354-4EE1-A22C-2CB3409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A9D-413B-481C-AC92-350073D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C95-F548-4AE0-B4A2-5221321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E05D-CDA1-498D-97C5-511CEFF0B13F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F57-F79E-4FA3-B8B0-77A3396C589E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abadkézi sokszög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Szabadkézi sokszög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Csoportba foglalás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Szabadkézi sokszög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Szabadkézi sokszög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Szabadkézi sokszög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Szabadkézi sokszög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759-EAA4-4521-B4BF-4341DCBC2ACA}" type="slidenum">
              <a:rPr b="0" lang="hu-H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gy sarkán kerekítve levágott téglalap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Derékszögű háromszög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Szabadkézi sokszög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Szabadkézi sokszög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C7C-B04C-45AA-BF92-72D4C4256874}" type="slidenum">
              <a:rPr b="0" lang="hu-H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015640" y="861480"/>
            <a:ext cx="70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NAME: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EPRESSZI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OTTO: SZIÓ-SZIÓ- DEPRESSZI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EMBERS: 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Bayka István, Fűlőp Szilárd, Iozsa Ionu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ţ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452960" y="2717280"/>
            <a:ext cx="64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  <a:ea typeface="Calibri"/>
              </a:rPr>
              <a:t>The three pigs and the rhin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Szövegdoboz 5"/>
          <p:cNvSpPr/>
          <p:nvPr/>
        </p:nvSpPr>
        <p:spPr>
          <a:xfrm>
            <a:off x="1143000" y="53578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0" lang="hu-HU" sz="1800" spc="-1" strike="noStrike">
                <a:solidFill>
                  <a:srgbClr val="000000"/>
                </a:solidFill>
                <a:latin typeface="Constantia"/>
              </a:rPr>
              <a:t> 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zövegdoboz 1"/>
          <p:cNvSpPr/>
          <p:nvPr/>
        </p:nvSpPr>
        <p:spPr>
          <a:xfrm>
            <a:off x="220320" y="928800"/>
            <a:ext cx="8997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One day, not long ag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there were three wild pigs. They lived a happy lif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ci was small and smart, Pici wasn’t that small and was a thinker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icsi 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 tall and  </a:t>
            </a:r>
            <a:r>
              <a:rPr b="0" lang="ro-RO" sz="2000" spc="-1" strike="noStrike">
                <a:solidFill>
                  <a:srgbClr val="000000"/>
                </a:solidFill>
                <a:latin typeface="Trebuchet MS"/>
              </a:rPr>
              <a:t>quite heavy-headed</a:t>
            </a: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Kép 2" descr="funny-farm-animals-34.jpg"/>
          <p:cNvPicPr/>
          <p:nvPr/>
        </p:nvPicPr>
        <p:blipFill>
          <a:blip r:embed="rId1"/>
          <a:stretch/>
        </p:blipFill>
        <p:spPr>
          <a:xfrm>
            <a:off x="1714680" y="2071800"/>
            <a:ext cx="642924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zövegdoboz 1"/>
          <p:cNvSpPr/>
          <p:nvPr/>
        </p:nvSpPr>
        <p:spPr>
          <a:xfrm>
            <a:off x="347760" y="1285920"/>
            <a:ext cx="881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hree wild pigs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determined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to go to the T.D.I. The three pigs went 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ocean to swim until they reach the TDI. And they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</a:rPr>
              <a:t>swam and swa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y got </a:t>
            </a:r>
            <a:r>
              <a:rPr b="0" lang="hu-H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the island and started to eat the cabbage from the fiel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Kép 2" descr="ist2_10249676-cabbage-field.jpg"/>
          <p:cNvPicPr/>
          <p:nvPr/>
        </p:nvPicPr>
        <p:blipFill>
          <a:blip r:embed="rId1"/>
          <a:stretch/>
        </p:blipFill>
        <p:spPr>
          <a:xfrm>
            <a:off x="2143080" y="2286000"/>
            <a:ext cx="5500800" cy="44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e field belonged to a strong and wild rhino.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828520"/>
            <a:ext cx="2462400" cy="29574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he rhino </a:t>
            </a:r>
            <a:r>
              <a:rPr b="1" lang="en-US" sz="2000" spc="-1" strike="noStrike">
                <a:solidFill>
                  <a:srgbClr val="c00000"/>
                </a:solidFill>
                <a:latin typeface="Trebuchet MS"/>
              </a:rPr>
              <a:t>happened to pass b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nd decided to eat the three wild pigs. The three pigs </a:t>
            </a:r>
            <a:r>
              <a:rPr b="1" lang="en-US" sz="2000" spc="-1" strike="noStrike">
                <a:solidFill>
                  <a:srgbClr val="c00000"/>
                </a:solidFill>
                <a:latin typeface="Trebuchet MS"/>
              </a:rPr>
              <a:t>were frightened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. Still they faced the danger and defended themselv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Kép 7" descr="6.jpg"/>
          <p:cNvPicPr/>
          <p:nvPr/>
        </p:nvPicPr>
        <p:blipFill>
          <a:blip r:embed="rId1"/>
          <a:stretch/>
        </p:blipFill>
        <p:spPr>
          <a:xfrm>
            <a:off x="3071880" y="928800"/>
            <a:ext cx="5972040" cy="51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08360" y="860760"/>
            <a:ext cx="854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In the middle of the fight the rhino slipped and drowned in the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rebuchet MS"/>
                <a:ea typeface="Calibri"/>
              </a:rPr>
              <a:t>Things were not so bad as they seem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The three pigs survived this adventure. </a:t>
            </a:r>
            <a:r>
              <a:rPr b="0" lang="en-US" sz="2000" spc="-1" strike="noStrike">
                <a:solidFill>
                  <a:srgbClr val="c00000"/>
                </a:solidFill>
                <a:latin typeface="Trebuchet MS"/>
                <a:ea typeface="Calibri"/>
              </a:rPr>
              <a:t>The horror was ov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Kép 6" descr="australiagreat.ocean.road186"/>
          <p:cNvPicPr/>
          <p:nvPr/>
        </p:nvPicPr>
        <p:blipFill>
          <a:blip r:embed="rId1"/>
          <a:stretch/>
        </p:blipFill>
        <p:spPr>
          <a:xfrm>
            <a:off x="1071720" y="1928880"/>
            <a:ext cx="7092720" cy="471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Kép 1" descr="P101035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8" name="Kép 2" descr="P1010340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9" name="Szövegdoboz 3"/>
          <p:cNvSpPr/>
          <p:nvPr/>
        </p:nvSpPr>
        <p:spPr>
          <a:xfrm>
            <a:off x="793440" y="49291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Cím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4071600"/>
            <a:ext cx="7854840" cy="909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c000"/>
                </a:solidFill>
                <a:latin typeface="Trebuchet MS"/>
              </a:rPr>
              <a:t>HAVE  A NICE DAY</a:t>
            </a:r>
            <a:r>
              <a:rPr b="0" lang="en-US" sz="2600" spc="-1" strike="noStrike">
                <a:solidFill>
                  <a:srgbClr val="ffc000"/>
                </a:solidFill>
                <a:latin typeface="Trebuchet MS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9:41:34Z</dcterms:created>
  <dc:creator>abc</dc:creator>
  <dc:description/>
  <dc:language>en-US</dc:language>
  <cp:lastModifiedBy>abc</cp:lastModifiedBy>
  <dcterms:modified xsi:type="dcterms:W3CDTF">2010-02-23T20:23:30Z</dcterms:modified>
  <cp:revision>5</cp:revision>
  <dc:subject/>
  <dc:title>1. dia</dc:title>
</cp:coreProperties>
</file>